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0DD-DF5C-4147-B841-21994CBD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988F-A7C1-4BC7-BD82-15970D53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53CA-2211-4676-A84B-143CC182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ADED-969B-4700-B0AA-A1D72748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13C-11C4-4F4F-B7C4-071CABB2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22C0-552C-400C-BAE1-96197165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860A-4ADD-4454-84B1-9D22EB45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02B9-FD2C-4E21-ADAE-0EF9452E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774B-511E-4CA4-B463-9691BAFB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34C3-39C7-4E5A-95E5-0D60E9C6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DBAA-FC2B-4A2B-8FD5-6C3B8DDA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8D42-75D0-4DB4-AD53-5E3FE85A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8289-3725-4BBA-9FE2-FDCFF14BF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1a54c60a-66fa-4750-a47d-7c7b77868502/%5BINF_011%5D_%5BQS_01%5D.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files.school-collection.edu.ru/dlrstore/3cf6b950-f5bd-4f76-a105-fd7bc526990a/%5BINF_011%5D_%5BQS_02%5D.html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files.school-collection.edu.ru/dlrstore/f1b1a825-7bcb-443f-adda-eb32764271dc/%5BINF_011%5D_%5BQS_03%5D.html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files.school-collection.edu.ru/dlrstore/f04fd5d4-4fee-41e6-bcfc-c798c3b73ddb/%5BINF_009%5D_%5BAM_03%5D.swf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files.school-collection.edu.ru/dlrstore/039929c8-d256-4640-8909-f4c8c71e1130/%5BINF_009%5D_%5BAM_04%5D.swf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137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Информация в неживой природе. Информация в живой природе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1640" y="4220640"/>
            <a:ext cx="40323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знакомить с понятием информации в живой и неживой приро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08720" y="260280"/>
            <a:ext cx="144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ок №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та: 04.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1484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image005"/>
          <p:cNvPicPr/>
          <p:nvPr/>
        </p:nvPicPr>
        <p:blipFill>
          <a:blip r:embed="rId1"/>
          <a:stretch/>
        </p:blipFill>
        <p:spPr>
          <a:xfrm>
            <a:off x="826920" y="4076640"/>
            <a:ext cx="3456000" cy="2139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4000" y="260280"/>
            <a:ext cx="295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анилов Николай Серге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информатики МБОУ СОШ №18 Курганинского района Краснодарского кр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28120" y="1413000"/>
            <a:ext cx="512316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ормация - мера упорядоченности системы по шкале «хаос-поряд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ые предположения XIX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информации в неживой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цесс развития живых сис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ункции живых сис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916280"/>
            <a:ext cx="2806560" cy="72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2852640"/>
            <a:ext cx="2806560" cy="72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7440" y="3789360"/>
            <a:ext cx="2806920" cy="720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5796000" y="4724280"/>
            <a:ext cx="2806560" cy="720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5797440" y="5661000"/>
            <a:ext cx="28069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трольные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1. Попробуйте привести примеры перехода от хаоса к порядку (увеличения информации) в окружающем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. Попробуйте привести примеры перехода от порядка к хаосу (уменьшения информации) в окружающем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3. Попробуйте привести примеры перехода от хаоса к порядку (увеличения информации) в живой природе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4. Попробуйте привести примеры получения, передачи и использования информации живыми организмам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63640" y="1773360"/>
            <a:ext cx="5904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. 1.1.1 и п. 1.1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стр. 8 – 1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хника безопас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ика безопасности и санитарные н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Технология и безопасность работы. Рабочее пространство. Осанка."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2806560" cy="720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24360" y="4724280"/>
            <a:ext cx="28069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511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. 1.1.1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формация и информационные процессы</a:t>
            </a:r>
            <a:br>
              <a:rPr sz="3600"/>
            </a:br>
            <a:r>
              <a:rPr b="0" lang="en-US" sz="3600" spc="-1" strike="noStrike">
                <a:solidFill>
                  <a:srgbClr val="f6002f"/>
                </a:solidFill>
                <a:latin typeface="Arial"/>
              </a:rPr>
              <a:t>в неживой природ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р. 8 -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796000" y="620640"/>
            <a:ext cx="2987640" cy="4392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08720" y="5516640"/>
            <a:ext cx="1441440" cy="576360"/>
          </a:xfrm>
          <a:prstGeom prst="leftArrow">
            <a:avLst>
              <a:gd name="adj1" fmla="val 50000"/>
              <a:gd name="adj2" fmla="val 6252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ж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5300640"/>
            <a:ext cx="417528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5.76318E-006 L -0.60626 5.76318E-006 E">
                                      <p:cBhvr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физике, которая изучает неживую природу, информация является мерой упорядоченности системы по шкале «хаос — порядок». Один из основных законов классической физики утверждает, что замкнутые системы, в которых отсутствует обмен веществом и энергией с окружающей средой, стремятся с течением времени перейти из менее вероятного упорядоченного состояния в наиболее вероятное хаотическое состоя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187280" y="4076640"/>
          <a:ext cx="6912000" cy="23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076640"/>
                    <a:ext cx="691200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627280" y="4651200"/>
            <a:ext cx="1368360" cy="2178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360 h 217800"/>
              <a:gd name="textAreaBottom" fmla="*/ 163440 h 217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858560" y="5372280"/>
            <a:ext cx="1297080" cy="217440"/>
          </a:xfrm>
          <a:custGeom>
            <a:avLst/>
            <a:gdLst>
              <a:gd name="textAreaLeft" fmla="*/ 202320 w 1297080"/>
              <a:gd name="textAreaRight" fmla="*/ 1134720 w 129708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имер, если в одну половину замкнутого сосуда поместить газ, то через некоторое время в результате хаотического движения молекулы газа равномерно заполнят весь сосуд. Произойдет переход из менее вероятного упорядоченного состояния в более вероятное хаотическое состояние, и информация, которая является мерой упорядоченности системы, в этом случае уменьшится (рис. 1.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image004"/>
          <p:cNvPicPr/>
          <p:nvPr/>
        </p:nvPicPr>
        <p:blipFill>
          <a:blip r:embed="rId1"/>
          <a:stretch/>
        </p:blipFill>
        <p:spPr>
          <a:xfrm>
            <a:off x="1332000" y="3645000"/>
            <a:ext cx="622764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кро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488000" cy="4681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58560" y="6093000"/>
            <a:ext cx="33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инка взята с сай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profismar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кро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6093000"/>
            <a:ext cx="300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инка взята с сай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basik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27236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га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360" y="6165720"/>
            <a:ext cx="30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инка взята с сай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edem.kiev.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1289160"/>
            <a:ext cx="861840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огие физики в конце XIX века предсказывали, что нашу Вселенную ждет «тепловая смерть», т. е. молекулы и атомы со временем равномерно распределятся в пространстве и какие-либо изменения и развитие прекратя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ко современная наука установила, что некоторые законы классической физики, справедливые для макротел, нельзя применять для микро- и мегамира. Согласно современным научным представлениям, наша Вселенная является динамически развивающейся системой, в которой постоянно происходят процессы усложнения струк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им образом, с одной стороны, в неживой природе в замкнутых системах идут процессы в направлении от порядка к хаосу (в них информация уменьшается). С другой стороны, в процессе эволюции Вселенной в микро- и мегамире возникают объекты со все более сложной структурой и, следовательно, информация, являющаяся мерой упорядоченности элементов системы, возраст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2374920" cy="1484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59280" y="4365720"/>
            <a:ext cx="2663640" cy="1768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508720" y="4437000"/>
            <a:ext cx="3311280" cy="1789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83280" y="6093000"/>
            <a:ext cx="225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ртинка взята с сайта   http://profismar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48000" y="609300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ртинка взята с сайта   http://basik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88000" y="616572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ртинка взята с сайта   medem.kiev.u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511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. 1.1.2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формация и информационные процессы</a:t>
            </a:r>
            <a:br>
              <a:rPr sz="3600"/>
            </a:br>
            <a:r>
              <a:rPr b="0" lang="en-US" sz="3600" spc="-1" strike="noStrike">
                <a:solidFill>
                  <a:srgbClr val="f6002f"/>
                </a:solidFill>
                <a:latin typeface="Arial"/>
              </a:rPr>
              <a:t>в живой природ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р. 10 -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796000" y="620640"/>
            <a:ext cx="2987640" cy="4392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308720" y="5516640"/>
            <a:ext cx="1441440" cy="576360"/>
          </a:xfrm>
          <a:prstGeom prst="leftArrow">
            <a:avLst>
              <a:gd name="adj1" fmla="val 50000"/>
              <a:gd name="adj2" fmla="val 6252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ж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5300640"/>
            <a:ext cx="417528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5.76318E-006 L -0.60626 5.76318E-006 E">
                                      <p:cBhvr>
                                        <p:cTn id="3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20:46:17Z</dcterms:created>
  <dc:creator>Nik1</dc:creator>
  <dc:description/>
  <dc:language>en-US</dc:language>
  <cp:lastModifiedBy>Nik1</cp:lastModifiedBy>
  <dcterms:modified xsi:type="dcterms:W3CDTF">2015-03-30T16:33:03Z</dcterms:modified>
  <cp:revision>38</cp:revision>
  <dc:subject/>
  <dc:title>Что значит «слышать музыку?»</dc:title>
</cp:coreProperties>
</file>